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33B-B04D-4CBD-BC7F-6AC77E00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368-EA5B-486A-8648-FDC121BB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0EE-5FE0-4AFA-8477-6BB05D2A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90C-054C-46D5-A68C-2F8226A2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B162-87B5-47ED-9C9F-43070E2A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4B4-7DC0-482B-BE0B-B8DB8E26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73A-4CA6-4488-9522-B1E52091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246-8A2F-4379-9BFE-E946CE53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69C-2898-49E5-9135-B9B892C9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711-B19E-4920-88ED-90F3FE9E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C56-41E8-479D-BC37-F297E343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0F6-7522-48FB-8A02-D034BDBB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8E20-011F-4ABE-A2DC-2F02D1A02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ypdftools.com/buy/buy-pdf-to-powerpoint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1122480" y="1111320"/>
            <a:ext cx="5529240" cy="2844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122480" y="9180360"/>
            <a:ext cx="5529240" cy="288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122480" y="1579680"/>
            <a:ext cx="5529240" cy="51120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22480" y="2090880"/>
            <a:ext cx="5529240" cy="4730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reeform 3"/>
          <p:cNvSpPr/>
          <p:nvPr/>
        </p:nvSpPr>
        <p:spPr>
          <a:xfrm>
            <a:off x="1069920" y="3427560"/>
            <a:ext cx="6480" cy="46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1069920" y="3427560"/>
            <a:ext cx="5635800" cy="46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reeform 3"/>
          <p:cNvSpPr/>
          <p:nvPr/>
        </p:nvSpPr>
        <p:spPr>
          <a:xfrm>
            <a:off x="6699240" y="3427560"/>
            <a:ext cx="6480" cy="46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1069920" y="3432240"/>
            <a:ext cx="6480" cy="7380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069920" y="4164120"/>
            <a:ext cx="5629320" cy="6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6699240" y="3432240"/>
            <a:ext cx="6480" cy="7380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6699240" y="4164120"/>
            <a:ext cx="6480" cy="61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5685480" y="901800"/>
            <a:ext cx="986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  <a:ea typeface="宋体"/>
              </a:rPr>
              <a:t>BizName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787040" y="1650960"/>
            <a:ext cx="4172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74360" y="2298600"/>
            <a:ext cx="26236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Hot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Proj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Propos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3126960" y="3454560"/>
            <a:ext cx="14929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You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Compan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658320" y="3619440"/>
            <a:ext cx="4428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3016080" y="3784680"/>
            <a:ext cx="173988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Tel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Fax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E-mail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3588120" y="3949560"/>
            <a:ext cx="5832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We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page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1128960" y="4965840"/>
            <a:ext cx="545148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l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pera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odg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e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re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l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m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od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ubmi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mester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e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ns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iffe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ge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esen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ing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ocumen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clu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C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eading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umber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i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ap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low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vi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l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ubmi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3"/>
          <p:cNvSpPr/>
          <p:nvPr/>
        </p:nvSpPr>
        <p:spPr>
          <a:xfrm>
            <a:off x="1122480" y="1111320"/>
            <a:ext cx="5529240" cy="2844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1122480" y="9180360"/>
            <a:ext cx="5529240" cy="288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3867120" y="9182160"/>
            <a:ext cx="39600" cy="27000"/>
          </a:xfrm>
          <a:prstGeom prst="pie">
            <a:avLst/>
          </a:prstGeom>
          <a:solidFill>
            <a:srgbClr val="0000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1882440" y="901800"/>
            <a:ext cx="484560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Impact"/>
                <a:ea typeface="宋体"/>
              </a:rPr>
              <a:t>YourCompanyName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99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Hot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ro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00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Table of Cont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1125360" y="3467160"/>
            <a:ext cx="328680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ECUT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F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RG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trength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eakness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pportuniti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re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trate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RANCHI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R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ackg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ranchi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ranch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etit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ven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ccup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6540120" y="3467160"/>
            <a:ext cx="77040" cy="54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3"/>
          <p:cNvSpPr/>
          <p:nvPr/>
        </p:nvSpPr>
        <p:spPr>
          <a:xfrm>
            <a:off x="1122480" y="1111320"/>
            <a:ext cx="5529240" cy="2844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reeform 3"/>
          <p:cNvSpPr/>
          <p:nvPr/>
        </p:nvSpPr>
        <p:spPr>
          <a:xfrm>
            <a:off x="1122480" y="9180360"/>
            <a:ext cx="5529240" cy="288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3848040" y="9182160"/>
            <a:ext cx="77760" cy="270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4924440" y="901800"/>
            <a:ext cx="179748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Impact"/>
                <a:ea typeface="宋体"/>
              </a:rPr>
              <a:t>YourCompanyName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122120" y="1473120"/>
            <a:ext cx="3001320" cy="79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T/SERV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merg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r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PERA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NAG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NSTR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NAG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ANC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TAT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6540120" y="1473120"/>
            <a:ext cx="77040" cy="36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3"/>
          <p:cNvSpPr/>
          <p:nvPr/>
        </p:nvSpPr>
        <p:spPr>
          <a:xfrm>
            <a:off x="1122480" y="1111320"/>
            <a:ext cx="5529240" cy="2844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1122480" y="9180360"/>
            <a:ext cx="5529240" cy="288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3828960" y="9182160"/>
            <a:ext cx="115920" cy="270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4924440" y="901800"/>
            <a:ext cx="179748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Impact"/>
                <a:ea typeface="宋体"/>
              </a:rPr>
              <a:t>YourCompanyName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3826800" y="9283680"/>
            <a:ext cx="1058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ii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3074040" y="1473120"/>
            <a:ext cx="16117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List of Append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1059480" y="1955880"/>
            <a:ext cx="56286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Tip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N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maj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s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with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bod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y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pl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shou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exce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6-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pag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appendi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pres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detail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information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Sugges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appendi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fol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1128960" y="2755800"/>
            <a:ext cx="33559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sul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1132560" y="2921040"/>
            <a:ext cx="5469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clu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plai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gmenta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attern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hannel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ice/qual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gment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ustom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ategori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rend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are/segment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tc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a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ik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ens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e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ferenc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eri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c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a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eca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Ye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e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1133640" y="3886200"/>
            <a:ext cx="535284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hart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t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k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ssump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are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volum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ic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pla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sourc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tc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e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ven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anc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ssump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anc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Ye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e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362960" y="4673520"/>
            <a:ext cx="51480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ssump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nsist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riv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arl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n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ulle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k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ssump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tai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1123200" y="5118120"/>
            <a:ext cx="2782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anc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Ye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e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1355760" y="5308560"/>
            <a:ext cx="52513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f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ow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e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a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tai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&amp;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onth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anc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olla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cl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ppropri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ercentag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nu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ubsequ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122480" y="6108840"/>
            <a:ext cx="16545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mo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1359360" y="6299280"/>
            <a:ext cx="51174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mo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eri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ou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per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u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ate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erial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ot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rochur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1132200" y="7201080"/>
            <a:ext cx="54316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ppendi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uppor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eri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feren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/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ummariz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or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pos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o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er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c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ppendic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e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haust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3"/>
          <p:cNvSpPr/>
          <p:nvPr/>
        </p:nvSpPr>
        <p:spPr>
          <a:xfrm>
            <a:off x="1170000" y="1046160"/>
            <a:ext cx="5430960" cy="2556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170000" y="9229680"/>
            <a:ext cx="5430960" cy="270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3848040" y="9231480"/>
            <a:ext cx="74520" cy="270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170000" y="2441520"/>
            <a:ext cx="5430960" cy="28584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1170000" y="2727360"/>
            <a:ext cx="5430960" cy="270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4988880" y="851040"/>
            <a:ext cx="16556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Impact"/>
                <a:ea typeface="宋体"/>
              </a:rPr>
              <a:t>YourCompanyName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847680" y="9334440"/>
            <a:ext cx="6480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251000" y="2489040"/>
            <a:ext cx="12441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1324080" y="2857680"/>
            <a:ext cx="509904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troduc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ntit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(company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r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pos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hic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la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ref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dicat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cop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tructu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ocument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no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ummaris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la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he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rit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lan'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ummar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nc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inalis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ec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1220400" y="3429000"/>
            <a:ext cx="53064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xplai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he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h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rot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lan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he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h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urpose/reas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(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mmerci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hot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posal)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Giv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ntac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etail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(address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hone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ax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-mail)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ac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membe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Giv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rie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usines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ion/incorporati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etail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lis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fession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dviser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(auditors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legal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ax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tellectu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perty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ing/business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echnical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atent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tc.)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incip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ankers/investors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lis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ppendix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274040" y="4406760"/>
            <a:ext cx="51991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s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posal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ll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nfidential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refo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mporta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us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nfidentialit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tatement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clud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aragraph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like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1551600" y="4813200"/>
            <a:ext cx="50756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ocum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nfidenti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h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ee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mad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vailabl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dividu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h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ddress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trictl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understand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t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il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isclos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iscuss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it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ir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arti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xcep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dividual'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w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fession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dviser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vestm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new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mal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usiness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arri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hig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risk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el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ossibilit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hig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rewards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highl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peculativ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otenti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vestor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wa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n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stablish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xist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rad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har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ivat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ies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spectiv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vestor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dvis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verif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l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materi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act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ak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dvic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ro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fession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dvis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efo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nter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mmit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1558800" y="6134040"/>
            <a:ext cx="50612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la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trictl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i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nl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o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nstitut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spectu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n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vitati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ubscrib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hares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la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hav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ee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mpil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moter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llustrativ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urpos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nstitut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fi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ecasts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ventu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utcom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ma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mo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les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avourabl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a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ortray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1208880" y="6870600"/>
            <a:ext cx="27259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nti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ecti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xce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w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ag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592000" y="1244520"/>
            <a:ext cx="27658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Y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Hot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He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2623680" y="1905120"/>
            <a:ext cx="27154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Hot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Proj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Propos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-37080" y="622440"/>
            <a:ext cx="6131880" cy="25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6060"/>
                </a:solidFill>
                <a:latin typeface="Tahoma"/>
                <a:ea typeface="宋体"/>
              </a:rPr>
              <a:t>Thank you for evaluating AnyBizSoft PDF to PowerPoi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606060"/>
                </a:solidFill>
                <a:latin typeface="Tahoma"/>
                <a:ea typeface="宋体"/>
              </a:rPr>
              <a:t>You can only convert 5 pages with the trial 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606060"/>
                </a:solidFill>
                <a:latin typeface="Tahoma"/>
                <a:ea typeface="宋体"/>
              </a:rPr>
              <a:t>To get all the pages converted, you need to purchase the software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ahoma"/>
                <a:ea typeface="宋体"/>
                <a:hlinkClick r:id="rId1"/>
              </a:rPr>
              <a:t>http://www.anypdftools.com/buy/buy-pdf-to-powerpoint.htm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robert</dc:creator>
  <dc:description/>
  <dc:language>en-US</dc:language>
  <cp:lastModifiedBy>robert</cp:lastModifiedBy>
  <dcterms:modified xsi:type="dcterms:W3CDTF">2011-03-31T10:23:06Z</dcterms:modified>
  <cp:revision>3</cp:revision>
  <dc:subject/>
  <dc:title>Slide 1</dc:title>
</cp:coreProperties>
</file>